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720263" cy="6480175"/>
  <p:notesSz cx="923766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376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644560" y="531360"/>
            <a:ext cx="3943080" cy="26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23400" y="3330360"/>
            <a:ext cx="7386840" cy="31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400680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5227560" y="0"/>
            <a:ext cx="400680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659640"/>
            <a:ext cx="400680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27560" y="6659640"/>
            <a:ext cx="400680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42960"/>
                <a:tab algn="l" pos="1287360"/>
                <a:tab algn="l" pos="1932120"/>
                <a:tab algn="l" pos="257652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42960"/>
                <a:tab algn="l" pos="1287360"/>
                <a:tab algn="l" pos="1932120"/>
                <a:tab algn="l" pos="257652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54C05-66AB-498C-91D1-E5CD9106F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"/>
          <p:cNvSpPr/>
          <p:nvPr/>
        </p:nvSpPr>
        <p:spPr>
          <a:xfrm>
            <a:off x="5227560" y="6659640"/>
            <a:ext cx="4006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42960"/>
                <a:tab algn="l" pos="1287360"/>
                <a:tab algn="l" pos="1932120"/>
                <a:tab algn="l" pos="257652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EEA2F-DDE9-4188-9A27-A318C1E61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644920" y="531720"/>
            <a:ext cx="3944880" cy="26290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23400" y="3330720"/>
            <a:ext cx="738828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5227560" y="6659640"/>
            <a:ext cx="4006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42960"/>
                <a:tab algn="l" pos="1287360"/>
                <a:tab algn="l" pos="1932120"/>
                <a:tab algn="l" pos="257652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25799-8899-4707-811A-AA15EC981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2644920" y="531720"/>
            <a:ext cx="3944880" cy="26290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23400" y="3330360"/>
            <a:ext cx="738828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"/>
          <p:cNvSpPr/>
          <p:nvPr/>
        </p:nvSpPr>
        <p:spPr>
          <a:xfrm>
            <a:off x="5227560" y="6659640"/>
            <a:ext cx="4006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42960"/>
                <a:tab algn="l" pos="1287360"/>
                <a:tab algn="l" pos="1932120"/>
                <a:tab algn="l" pos="257652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B712E-1125-4DA0-8CDB-99FFABCBE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2644920" y="531720"/>
            <a:ext cx="3944880" cy="26290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23400" y="3330360"/>
            <a:ext cx="738828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5227560" y="6659640"/>
            <a:ext cx="4006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42960"/>
                <a:tab algn="l" pos="1287360"/>
                <a:tab algn="l" pos="1932120"/>
                <a:tab algn="l" pos="257652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F24A0-4055-4C0C-B677-9EE51BF31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2644920" y="531720"/>
            <a:ext cx="3944880" cy="26290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23400" y="3330360"/>
            <a:ext cx="738828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5227560" y="6659640"/>
            <a:ext cx="4006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42960"/>
                <a:tab algn="l" pos="1287360"/>
                <a:tab algn="l" pos="1932120"/>
                <a:tab algn="l" pos="257652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6EA27-BE27-4B74-9D5A-555CBBF6E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2644920" y="531720"/>
            <a:ext cx="3944880" cy="26290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23400" y="3330360"/>
            <a:ext cx="738828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5227560" y="6659640"/>
            <a:ext cx="4006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42960"/>
                <a:tab algn="l" pos="1287360"/>
                <a:tab algn="l" pos="1932120"/>
                <a:tab algn="l" pos="257652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B38F5-009D-4F45-9C78-F3F211D78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2644920" y="531720"/>
            <a:ext cx="3944880" cy="26290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23400" y="3330360"/>
            <a:ext cx="738828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5227560" y="6659640"/>
            <a:ext cx="4006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42960"/>
                <a:tab algn="l" pos="1287360"/>
                <a:tab algn="l" pos="1932120"/>
                <a:tab algn="l" pos="257652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F10FD-8684-4AE1-BF95-4A75F5FFD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644920" y="531720"/>
            <a:ext cx="3944880" cy="26290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23400" y="3330360"/>
            <a:ext cx="738828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5227560" y="6659640"/>
            <a:ext cx="4006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42960"/>
                <a:tab algn="l" pos="1287360"/>
                <a:tab algn="l" pos="1932120"/>
                <a:tab algn="l" pos="257652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5EBD3-EDE7-4FF7-A530-DD29024AB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44920" y="531720"/>
            <a:ext cx="3944880" cy="26290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23400" y="3330360"/>
            <a:ext cx="738828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DA64-18D7-4AF2-9F19-CA1758E6D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640" y="5335200"/>
            <a:ext cx="87458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677520"/>
            <a:ext cx="8745840" cy="16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2529720"/>
            <a:ext cx="8745840" cy="16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72C2-942B-456F-815D-31F69FCE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640" y="5335200"/>
            <a:ext cx="87458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677520"/>
            <a:ext cx="4267800" cy="16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7280" y="677520"/>
            <a:ext cx="4267800" cy="16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2529720"/>
            <a:ext cx="4267800" cy="16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7280" y="2529720"/>
            <a:ext cx="4267800" cy="16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EEAD-C861-447A-82C2-54A2AFDA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640" y="5335200"/>
            <a:ext cx="87458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677520"/>
            <a:ext cx="2815920" cy="16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2680" y="677520"/>
            <a:ext cx="2815920" cy="16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720" y="677520"/>
            <a:ext cx="2815920" cy="16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2529720"/>
            <a:ext cx="2815920" cy="16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2680" y="2529720"/>
            <a:ext cx="2815920" cy="16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720" y="2529720"/>
            <a:ext cx="2815920" cy="16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9D38-2D10-433B-B40D-E7F24227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640" y="5335200"/>
            <a:ext cx="87458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677520"/>
            <a:ext cx="8745840" cy="35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622E-EE97-4490-B29E-5AE013CF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5335200"/>
            <a:ext cx="87458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677520"/>
            <a:ext cx="8745840" cy="354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A692-5FC7-42FB-8704-88E23258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640" y="5335200"/>
            <a:ext cx="87458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677520"/>
            <a:ext cx="4267800" cy="354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7280" y="677520"/>
            <a:ext cx="4267800" cy="354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4955-1593-46CD-AB80-8EBA95C9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640" y="5335200"/>
            <a:ext cx="87458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69E5-0186-4D66-8E18-33D1F520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640" y="5335200"/>
            <a:ext cx="874584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0F54-038B-404B-9A6A-A1717516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640" y="5335200"/>
            <a:ext cx="87458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677520"/>
            <a:ext cx="4267800" cy="16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7280" y="677520"/>
            <a:ext cx="4267800" cy="354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2529720"/>
            <a:ext cx="4267800" cy="16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A675-6E93-45E9-A179-2E3F2CC0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640" y="5335200"/>
            <a:ext cx="87458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677520"/>
            <a:ext cx="4267800" cy="354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7280" y="677520"/>
            <a:ext cx="4267800" cy="16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7280" y="2529720"/>
            <a:ext cx="4267800" cy="16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4A2A-77CC-45CD-9537-A78BE8A3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640" y="5335200"/>
            <a:ext cx="87458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677520"/>
            <a:ext cx="4267800" cy="16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7280" y="677520"/>
            <a:ext cx="4267800" cy="16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2529720"/>
            <a:ext cx="8745840" cy="16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44E8-10E1-486B-A268-A1086AF3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5335200"/>
            <a:ext cx="87458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677520"/>
            <a:ext cx="8745840" cy="354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2000"/>
          </a:bodyPr>
          <a:p>
            <a:pPr marL="28116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81160" indent="-281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81160" indent="-281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81160" indent="-281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81160" indent="-281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81160" indent="-281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81160" indent="-281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4606560"/>
            <a:ext cx="226224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3880" y="4606560"/>
            <a:ext cx="307980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9240" y="4606560"/>
            <a:ext cx="226224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6945C7D-A052-4D93-8C70-89B477537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85640" y="677880"/>
            <a:ext cx="874728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82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</a:rPr>
              <a:t>Six options for the field th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6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</a:rPr>
              <a:t>Elmersville has recently acquired near downtown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5640" y="5381640"/>
            <a:ext cx="8747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ption 1: Public Park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613560" cy="4630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85640" y="5250960"/>
            <a:ext cx="87472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ption 2: New Elementary Schoo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611360" y="958680"/>
            <a:ext cx="6161040" cy="4070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5640" y="5381640"/>
            <a:ext cx="8747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ption 3: Office Build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143000" y="608040"/>
            <a:ext cx="7439040" cy="4878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5640" y="5381640"/>
            <a:ext cx="8747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ption 4: City Garbage Dump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224000" y="576360"/>
            <a:ext cx="7005600" cy="4910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5640" y="5381640"/>
            <a:ext cx="8747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ption 5: Low Income Hous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709560" y="914400"/>
            <a:ext cx="7826400" cy="4368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5640" y="5381640"/>
            <a:ext cx="874728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ption 6: Shopping Mal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828800" y="914400"/>
            <a:ext cx="6026040" cy="4486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85640" y="677520"/>
            <a:ext cx="8747280" cy="34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Activ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87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in your group the costs for each option, then use Visual Ranking Tool to rank the options, as a group, from most costly to le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1T21:50:53Z</dcterms:created>
  <dc:creator>Louis Guptill</dc:creator>
  <dc:description>Presentation Layout Template</dc:description>
  <dc:language>en-US</dc:language>
  <cp:lastModifiedBy>profile</cp:lastModifiedBy>
  <dcterms:modified xsi:type="dcterms:W3CDTF">2010-08-17T19:25:03Z</dcterms:modified>
  <cp:revision>2</cp:revision>
  <dc:subject/>
  <dc:title>Blue with Bottom Title </dc:title>
</cp:coreProperties>
</file>